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4409-68DB-478F-8AAC-C1AF42DF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01A3-130B-4BE0-B181-D729A1D3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1873-B561-4FEF-BF1C-4A53BD8E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4B8A-C076-494B-B5CB-2503B013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6775-CC14-4B82-B669-087ADBE7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BA1-6403-4A5F-8711-A7593BEB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7D11-4B89-466D-98CC-FEA26EA4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2862-D166-41B1-A996-54A5F116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48BA-7114-4139-931B-29642B63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42F-CE5C-4D1E-98EF-9B0720B8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7030-D573-4272-8CDD-56D9BCD1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7293-C685-4F3E-B308-85B66760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B54D-A1EF-4628-8CAB-BBFAAC526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ULO ITEM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484280"/>
            <a:ext cx="8280360" cy="29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modulo ITEMS esta diseñado para realizar la mantencion de las tablas d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-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-Materias Pri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-Insu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.-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os estos ITEMS mencionados, son utilizados finalmente en todo el ciclo operativo de la Empresa, tales como; Ventas, Compras, Produccion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6913800" cy="2590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404640"/>
            <a:ext cx="820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ULO ITEM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ESO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acceder al modulo Items, debe ir al menu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tenedores &gt; Catalogo &gt;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5:19:44Z</dcterms:created>
  <dc:creator>.</dc:creator>
  <dc:description/>
  <dc:language>en-US</dc:language>
  <cp:lastModifiedBy>.</cp:lastModifiedBy>
  <dcterms:modified xsi:type="dcterms:W3CDTF">2011-10-24T16:09:43Z</dcterms:modified>
  <cp:revision>2</cp:revision>
  <dc:subject/>
  <dc:title>Diapositiva 1</dc:title>
</cp:coreProperties>
</file>